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646F-B0A9-41D8-B5A1-66D3CDE3D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164C-50C3-46C2-87F7-C4B295DF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A077-8F64-4499-8A79-DAAA1C65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DECC-0C02-4237-A3F3-74612A4D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C696-0BFE-4AB2-BF3B-D5D64437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F92A-785C-4AA8-8630-F7F19ADE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180F-44C2-4D80-9DAE-6F1C4310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8BB7-E5CF-4CB8-8E0F-136BCE88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2AD9-4E1F-4D1D-9AC4-3DABD6CF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2DB9-80E7-4942-8B33-E2765520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7FA0-AE63-40AD-96FE-DB7CC521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4273-4AC4-449E-A305-3BE7E3EB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CE03-5619-4A52-A81A-D20FD4E21BB6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Intermediate P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514600"/>
            <a:ext cx="79250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Preparation of the Body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Lesson 8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Wednesday 28</a:t>
            </a:r>
            <a:r>
              <a:rPr b="1" lang="en-US" sz="4000" spc="-1" strike="noStrike" baseline="30000">
                <a:solidFill>
                  <a:srgbClr val="0000ff"/>
                </a:solidFill>
                <a:latin typeface="Comic Sans MS"/>
              </a:rPr>
              <a:t>th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October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Progressive Overlo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438280"/>
            <a:ext cx="868680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ow can we progress our programme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ow can we ensure our body is experiencing overload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Reversi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905120"/>
            <a:ext cx="868680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hat will happen over time if training ends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hat implications does this have on long term planning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Modifying/Adapting a Pr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905120"/>
            <a:ext cx="8686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hy might we need to do this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ow could we do this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Monitoring Train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752480"/>
            <a:ext cx="861048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It is vital that I monitor training during a programme of work to: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heck that I am working at the correct leve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heck that I am progressing training over tim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Ensure that I am correctly following the programm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Get indications that the programme is too challenging (possibly leading to overtraining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Get indications that the programme is not challenging enough (no improvements to fitness would be made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Monitoring Train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989000"/>
            <a:ext cx="9144000" cy="46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I can monitor training in a number of ways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Training diary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Re-tes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elf assessmen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Peer assessmen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Teacher/coach feedback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Take notes on each of these method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Preli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2060640"/>
            <a:ext cx="8028000" cy="28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Comic Sans MS"/>
              </a:rPr>
              <a:t>Wednesday 3</a:t>
            </a:r>
            <a:r>
              <a:rPr b="1" lang="en-GB" sz="4000" spc="-1" strike="noStrike" baseline="30000">
                <a:solidFill>
                  <a:srgbClr val="0000ff"/>
                </a:solidFill>
                <a:latin typeface="Comic Sans MS"/>
              </a:rPr>
              <a:t>rd</a:t>
            </a:r>
            <a:r>
              <a:rPr b="1" lang="en-GB" sz="4000" spc="-1" strike="noStrike">
                <a:solidFill>
                  <a:srgbClr val="0000ff"/>
                </a:solidFill>
                <a:latin typeface="Comic Sans MS"/>
              </a:rPr>
              <a:t> February 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Comic Sans MS"/>
              </a:rPr>
              <a:t>period 3 and 4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Comic Sans MS"/>
              </a:rPr>
              <a:t>Supported Study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133720"/>
            <a:ext cx="853416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Arial"/>
              </a:rPr>
              <a:t>Answer the following 2 questions and study for your end of block test (Wednesday 4</a:t>
            </a:r>
            <a:r>
              <a:rPr b="1" lang="en-US" sz="3200" spc="-1" strike="noStrike" baseline="30000">
                <a:solidFill>
                  <a:srgbClr val="0000ff"/>
                </a:solidFill>
                <a:latin typeface="Comic Sans MS"/>
                <a:ea typeface="Arial"/>
              </a:rPr>
              <a:t>th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Arial"/>
              </a:rPr>
              <a:t> November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Arial"/>
              </a:rPr>
              <a:t>I will hold a revision session tomorrow after school for any interested pupils in RE 2 (3.30 – 4.30pm)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Arial"/>
              </a:rPr>
              <a:t>   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844640"/>
            <a:ext cx="853416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omic Sans MS"/>
              </a:rPr>
              <a:t>1) Discuss how you applied the principles of training when planning a programme to meet your identified fitness needs.  (6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omic Sans MS"/>
              </a:rPr>
              <a:t>2) Having monitored your level of fitness during your training programme you will have made changes.  Explain why these changes were necessary.  Give examples to support your answer.  (4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81080"/>
            <a:ext cx="81536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By the end of this lesson you should all be able to: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Describe a programme of work to improve Cardio-Respiratory Endurance in hockey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Explain how you have considered the principles of training when designing the programme of work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uggest how you could adapt or modify a programme and explain why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Describe how you monitor your progress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Initial Tas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981080"/>
            <a:ext cx="81532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Programme of Work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mplete the programme on page 23 of your course not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50920" y="260280"/>
          <a:ext cx="8642160" cy="6346800"/>
        </p:xfrm>
        <a:graphic>
          <a:graphicData uri="http://schemas.openxmlformats.org/drawingml/2006/table">
            <a:tbl>
              <a:tblPr/>
              <a:tblGrid>
                <a:gridCol w="869760"/>
                <a:gridCol w="2733840"/>
                <a:gridCol w="2289240"/>
                <a:gridCol w="1374480"/>
                <a:gridCol w="1374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Session 1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Session 2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Session 3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Session 4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Wks 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1 &amp; 2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Warm Up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20 minutes continuous running at 70-85% heart rate maximum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Small sided game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Cool down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Warm Up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20 minute fartlek session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Small sided game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Cool down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Repeat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session 1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Rest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Wks 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3 &amp; 4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Warm Up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25 minute fartlek session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Small sided game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Cool down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Warm Up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25 minutes continuous running at 70-85% heart rate maximum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Small sided game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Cool down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Repeat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session 1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Rest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Wks 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5 &amp; 6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Warm Up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30 minutes continuous running at 70-85% heart rate maximum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Small sided game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Cool down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Warm Up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25 minute fartlek session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Small sided game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Cool down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Repeat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session 1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Repeat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session 2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Principles of Tra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989000"/>
            <a:ext cx="868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ask 2 - Complete the worksheet to explain how we have considered the principles of training when designing this programme of work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Specifi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600200"/>
            <a:ext cx="868680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s the method of training appropriate for the aspect of fitness we want to work on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s it appropriate for the activity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Freque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2637000"/>
            <a:ext cx="868680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hat factors need to be considered here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ow do we fit in other types of training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Inten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905120"/>
            <a:ext cx="868680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o we have any information regarding how intense our programme should be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ow do we monitor this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Duration (Tim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905120"/>
            <a:ext cx="8686800" cy="26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o we have any information regarding how long our programme should be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ow do we monitor this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0:16:19Z</dcterms:created>
  <dc:creator>CarmichaelMA</dc:creator>
  <dc:description/>
  <dc:language>en-US</dc:language>
  <cp:lastModifiedBy>carmichaelma</cp:lastModifiedBy>
  <dcterms:modified xsi:type="dcterms:W3CDTF">2009-10-28T08:50:09Z</dcterms:modified>
  <cp:revision>49</cp:revision>
  <dc:subject/>
  <dc:title>Intermediate PE</dc:title>
</cp:coreProperties>
</file>